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5E0-CA07-40D5-BFD6-EBA48BCE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8DF-9025-4FA2-9C6F-130F08F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C5C-C8E8-40AD-B9F8-50C2D234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112-FA10-4FFE-93DE-589C9B5B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118-450E-42A2-B68C-A6BCC5E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742-395F-4D3E-8F98-3E6FDE10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6F5-7163-4148-B1D3-7171FEF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699-DED5-4069-9806-C7364E72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5B2-D691-4A79-A8F8-5EA1E792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38E-7246-474A-9478-9E112A85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576-91A6-4A76-86F2-C1B5B75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D2A-7366-47F5-9CBF-3253D2B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E571-6434-476D-81D2-BB699E79B1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riting a Titl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think about different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itles for their stories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Like a good lead, the title invites the reader into the story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It sets the tone and expectations for what will follow. 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ere are many different types of titles.  Let’s look at some examples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ypes of Title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itles that name the character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d293"/>
                </a:solidFill>
                <a:latin typeface="Arial"/>
              </a:rPr>
              <a:t>Miss Rumphius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d293"/>
                </a:solidFill>
                <a:latin typeface="Arial"/>
              </a:rPr>
              <a:t>Because of Winn Dixie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d293"/>
                </a:solidFill>
                <a:latin typeface="Arial"/>
              </a:rPr>
              <a:t>My Rotten Red Headed Older Brother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itles that refer to a central event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d293"/>
                </a:solidFill>
                <a:latin typeface="Arial"/>
              </a:rPr>
              <a:t>The Goose that Almost Got Cooked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d293"/>
                </a:solidFill>
                <a:latin typeface="Arial"/>
              </a:rPr>
              <a:t>Grandfather’s Journey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d293"/>
                </a:solidFill>
                <a:latin typeface="Arial"/>
              </a:rPr>
              <a:t>Ira Sleeps Ove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itles that refer to an important object in the story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d293"/>
                </a:solidFill>
                <a:latin typeface="Arial"/>
              </a:rPr>
              <a:t>The Name Jar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d293"/>
                </a:solidFill>
                <a:latin typeface="Arial"/>
              </a:rPr>
              <a:t>The Raft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d293"/>
                </a:solidFill>
                <a:latin typeface="Arial"/>
              </a:rPr>
              <a:t>The Memory String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8:57:14Z</dcterms:created>
  <dc:creator>AAPS</dc:creator>
  <dc:description/>
  <dc:language>en-US</dc:language>
  <cp:lastModifiedBy>Carrie Dworkin</cp:lastModifiedBy>
  <dcterms:modified xsi:type="dcterms:W3CDTF">2005-08-12T18:20:12Z</dcterms:modified>
  <cp:revision>3</cp:revision>
  <dc:subject/>
  <dc:title>Writing a Title</dc:title>
</cp:coreProperties>
</file>